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6C8-A7A2-456B-9802-BB061C2D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5A8-AD78-48B5-A6D2-EF3EB37C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45F-B33F-42EF-8BCE-0F24D132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E83-0CF5-4BC5-9052-DA1F0D82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1886-B322-4F00-978D-31BA0BB1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2BD-2DA8-4D2D-A64B-900EDDF2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796-A71C-460B-80F4-F7CB160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409-8111-426F-AD03-CFFEC390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703-4659-490D-A764-6AC7532D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816-246C-4F4C-8936-DA5ECCAF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6A4D-47A1-4CD2-8570-1A3F43A3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108-7931-478F-B0C6-14C5458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6B20-9DF9-4FF2-B2DE-8E05DDF84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9" Type="http://schemas.microsoft.com/office/2007/relationships/media" Target="file:///tmp/home/.config/libreoffice/4/user/gallery/&#1047;&#1072;&#1087;&#1080;&#1089;&#1072;&#1085;&#1085;&#1099;&#1081;%20&#1079;&#1074;&#1091;&#1082;" TargetMode="Externa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forum.materinstvo.ru/journal.php?user=69932" TargetMode="External"/><Relationship Id="rId5" Type="http://schemas.openxmlformats.org/officeDocument/2006/relationships/hyperlink" Target="http://i051.radikal.ru/0910/b7/8f711843277d.jpg" TargetMode="External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8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848200"/>
            <a:ext cx="866880" cy="1009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68360" y="0"/>
            <a:ext cx="53532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866880" cy="1009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866880" cy="1009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2274840"/>
            <a:ext cx="866880" cy="100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1123920"/>
            <a:ext cx="86688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0" y="-27000"/>
            <a:ext cx="866880" cy="1009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1000" y="298440"/>
            <a:ext cx="828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arkiz de Sad script"/>
              </a:rPr>
              <a:t>Правила дорожно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arkiz de Sad script"/>
              </a:rPr>
              <a:t>движ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arkiz de Sad script"/>
              </a:rPr>
              <a:t>для малыш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7596360" y="-60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7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01080" y="-531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150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390" b="0"/>
          <a:stretch/>
        </p:blipFill>
        <p:spPr>
          <a:xfrm>
            <a:off x="0" y="-2232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164360" y="-60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09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96360" y="-531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391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2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524720" y="-531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55000" y="4973760"/>
            <a:ext cx="5976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унки взяты на сай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orum.materinstvo.ru/journal.php?user=699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051.radikal.ru/0910/b7/8f711843277d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алфав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асибо автора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08000" y="189000"/>
            <a:ext cx="8856720" cy="2378160"/>
            <a:chOff x="108000" y="189000"/>
            <a:chExt cx="8856720" cy="2378160"/>
          </a:xfrm>
        </p:grpSpPr>
        <p:pic>
          <p:nvPicPr>
            <p:cNvPr id="75" name="" descr=""/>
            <p:cNvPicPr/>
            <p:nvPr/>
          </p:nvPicPr>
          <p:blipFill>
            <a:blip r:embed="rId6"/>
            <a:stretch/>
          </p:blipFill>
          <p:spPr>
            <a:xfrm>
              <a:off x="7380360" y="333360"/>
              <a:ext cx="1584360" cy="21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7"/>
            <a:stretch/>
          </p:blipFill>
          <p:spPr>
            <a:xfrm>
              <a:off x="5364000" y="189000"/>
              <a:ext cx="215928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108000" y="333360"/>
              <a:ext cx="180000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9"/>
            <a:stretch/>
          </p:blipFill>
          <p:spPr>
            <a:xfrm>
              <a:off x="3348000" y="262080"/>
              <a:ext cx="2305080" cy="23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0"/>
            <a:stretch/>
          </p:blipFill>
          <p:spPr>
            <a:xfrm>
              <a:off x="1763640" y="404640"/>
              <a:ext cx="1933560" cy="201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1692360" y="2668680"/>
            <a:ext cx="61736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Презентацию выполнила 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МОУ «Новоаннинская гимназ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Пономарева Л.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Озвучивал  Пономарев С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5080" y="6140520"/>
            <a:ext cx="71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 скачали презентацию на сайте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ki.rd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newsflash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16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204480" cy="6902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85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2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45164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24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2472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56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1565" b="0"/>
          <a:stretch/>
        </p:blipFill>
        <p:spPr>
          <a:xfrm>
            <a:off x="0" y="-90360"/>
            <a:ext cx="9144000" cy="696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24720" y="-60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32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1200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46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1200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64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16436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47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85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8:24:15Z</dcterms:created>
  <dc:creator>Люсенька</dc:creator>
  <dc:description/>
  <dc:language>en-US</dc:language>
  <cp:lastModifiedBy>Boris</cp:lastModifiedBy>
  <dcterms:modified xsi:type="dcterms:W3CDTF">2013-03-09T16:18:58Z</dcterms:modified>
  <cp:revision>7</cp:revision>
  <dc:subject/>
  <dc:title>Слайд 1</dc:title>
</cp:coreProperties>
</file>